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  <p:custShowLst>
    <p:custShow name="Chapter" id="0">
      <p:sldLst>
        <p:sld r:id="rId15"/>
        <p:sld r:id="rId20"/>
        <p:sld r:id="rId22"/>
        <p:sld r:id="rId3"/>
        <p:sld r:id="rId23"/>
        <p:sld r:id="rId6"/>
        <p:sld r:id="rId13"/>
        <p:sld r:id="rId16"/>
        <p:sld r:id="rId17"/>
        <p:sld r:id="rId18"/>
      </p:sldLst>
    </p:custShow>
    <p:custShow name="ELI Sect 2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Bellringers" id="2">
      <p:sldLst>
        <p:sld r:id="rId6"/>
        <p:sld r:id="rId16"/>
      </p:sldLst>
    </p:custShow>
    <p:custShow name="Chapter menu" id="3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>
            <a:hlinkClick r:id="" action="ppaction://hlinkshowjump?jump=endshow"/>
          </p:cNvPr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>
            <a:hlinkClick r:id="" action="ppaction://hlinkshowjump?jump=previousslide"/>
          </p:cNvPr>
          <p:cNvSpPr/>
          <p:nvPr/>
        </p:nvSpPr>
        <p:spPr>
          <a:xfrm>
            <a:off x="4711680" y="61088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>
            <a:hlinkClick r:id="" action="ppaction://hlinkshowjump?jump=nextslide"/>
          </p:cNvPr>
          <p:cNvSpPr/>
          <p:nvPr/>
        </p:nvSpPr>
        <p:spPr>
          <a:xfrm>
            <a:off x="5702400" y="610884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769080" y="610884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>
            <a:hlinkClick r:id="" action="ppaction://hlinkshowjump?jump=endshow"/>
          </p:cNvPr>
          <p:cNvSpPr/>
          <p:nvPr/>
        </p:nvSpPr>
        <p:spPr>
          <a:xfrm>
            <a:off x="8026560" y="610884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ar Fronts and Midlatitudes Cyclo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Weath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Fro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o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ges of a Midlatitude Cyclo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idlatitude cyclone usually last several day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orth America, midlatitude cyclones generally travel about 45 km/h in an easterly direction as they spin counterclockwis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ollow several storm tracks, or routes, as they move from the Pacific coast to the Atlantic coas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lar Fronts and Midlatitudes Cyclon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lar Fronts and Midlatitudes Cyclon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different stages of a midlatitude cyclon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1" name="Picture 9" descr="Untitled-4 copy"/>
          <p:cNvPicPr/>
          <p:nvPr/>
        </p:nvPicPr>
        <p:blipFill>
          <a:blip r:embed="rId1"/>
          <a:stretch/>
        </p:blipFill>
        <p:spPr>
          <a:xfrm>
            <a:off x="2209680" y="2482920"/>
            <a:ext cx="472464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lar Fronts and Midlatitudes Cyclon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ticyclo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air in the midlatitude cyclone, the air of 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ticycl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ks and flows outward from a center of high pressu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e Coriolis effect, the circulation of air around an anticyclone is clockwise in the Northern Hemispher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cyclones bring dry weather, because their  sinking air does not promote cloud format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the air of an anticyclone different from that of a  midlatitude cyclon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air of an anticyclone sinks and flows outward from a center of high pressure. The air of a midlatitude cyclone rotates toward the rising air of a central, low-pressure reg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understorm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understor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usually brief, heavy storm that consists of rain, strong winds, lightning, and thund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nderstorms develop in three distinct stag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understorm dissipates as the supply of water vapor decreas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ghtn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 thunderstorm, clouds discharge electricity in the form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ghtni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leased electricity heats the air, and the air rapidly expands and produces a loud noise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un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lightning to occur, the clouds must have areas that carry distinct electrical charge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rrica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rrica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vere storm that develops over tropical oceans and whose strong winds of more than 120 km/h spiral in toward the intensely low-pressure storm cen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hurricane begins when warm, moist air over the ocean rises rapidl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moisture in the rising warm air condenses, a large amount of energy in the from of latent heat is released. This heat increase the force of the rising ai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urrican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ully developed hurricane consists of a series of thick cumulonimbus cloud bands that spiral upward around the center of the stor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dangerous aspect of a hurricane is a rising sea level and large waves,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orm sur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 hurricane is categorized 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ffir-Simpson 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using several factors. These factors include central pressure, wind speed, and storm surg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do hurricanes develop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ver warm tropical sea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rnado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rnad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structive, rotating column of air that has very high wind speeds and that maybe visible as a funnel-shaped clou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mallest, most violent, and shortest-lived severe storm is a tornad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ornado forms when a thunderstorm meets high-altitude horizontal winds. These winds cause the rising air in the thunderstorm to rotat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racteristic weather patterns of cold fronts with those of warm fro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midlatitude cyclone for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ment of hurricanes, thunderstorms, and tornado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vere Weathe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rnado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orm cloud may develop a narrow, funnel-shaped rapidly spinning extension that  reaches downward and may or may not touch the ground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funnel does touch the ground, it generally moves in a wandering, haphazard pat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structive power of a tornado is due to mainly the speed of the winds. These winds may reach speeds of more than 400 km/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ypes of Fro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ol air mass is dense and does not mix with the less-dense air of a warm air mas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us, a boundary,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on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s between air mass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middle-latitude weather usually take place along the various types of fron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nts do not exist in the Tropics because no air masses that have significant temperature differences exist t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d Fro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d fr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ont edge of a moving mass of cold air that pushes beneath a warmer air mass like a wedg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warm air is moist, clouds will form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d Front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cumulus and cumulonimbus clouds typically form along fast-moving cold fro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ng line of heavy thunderstorms, called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quall lin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occur in the warm, moist air just ahead of a fast-moving cold fro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low-moving cloud front typically produces weaker storms and lighter precipitation than a fast-moving cold front do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m Fro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m fr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ront edge of advancing warm air mass that replaces colder air with warmer ai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lope of a warm front is gradual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this gentle slope, clouds may extend far ahead of the surface location,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f the fro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arm front generally produces precipitation over a large area and may cause violent weath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ionary and Occluded Fro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ionary fro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ront of air masses that moves either very slowly or not at al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ccluded fro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ront that forms when a cold air mass overtakes a warm air mass and lifts the warm air mass of the ground and over another air mas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when air masses meet, the cold moves parallel to the front, and neither air mass is displac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lar Fronts and Midlatitudes Cyclon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each of Earth’s polar regions is a dome of cold air that may extend as far as 60° latitud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oundary where this cold polar air meets the tropical air mass of the middle latitudes, especially over the ocean,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lar fro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s commonly develop along the polar front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wa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bend that forms in a cold front or stationary front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lar Fronts and Midlatitudes Cyclon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dlatitude cycl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rea of low pressure that is characterized by rotating wind that moves toward the rising air of the central low-pressure reg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s are the beginnings of low-pressure storm centers called midlatitude cyclones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ve cyclon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cyclones strongly influence weather patterns in the middle latitud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4-30T15:23:07Z</dcterms:modified>
  <cp:revision>636</cp:revision>
  <dc:subject/>
  <dc:title>No Slide Title</dc:title>
</cp:coreProperties>
</file>